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opardy.wav" ContentType="audio/x-wav"/>
  <Override PartName="/ppt/media/jeopardy1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D93-6613-44F5-8D5B-C53041E3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CD9-77FB-4E8A-91AD-1FDAEAA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EE5-B06C-4ED2-8D09-DA00E376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D63-7154-4059-BDEF-5F3E86CC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B5A-B813-4E8F-B4D2-41483FBF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7212-9FA9-4C9F-A30A-DAF4E1E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FC9D-5F6D-46E5-AE55-2AEDF763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D781-48A2-46BC-9F3B-64A96EC2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EDCC-3259-4B28-9DAD-07F38E1E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243-C955-4174-9897-7C5B07AF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FDC6-2C14-4178-A520-4411D92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7F3-EC36-4231-B915-6F20D19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6A7A-2E60-4E55-BD00-1A0154C0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4097-EF4D-4A76-B57A-9C501FF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AA5B-DAE8-425B-8F98-0E71AAC8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42C3-E1D3-4E9E-930B-D3AC4926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3619-690A-4981-8867-D5FF2083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3C1-5A70-404F-895F-CD38CC09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829-74DC-4FFD-9D8F-B30262CE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7B5-3CEE-48C3-95DA-5EBBBFDE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227-E8D5-48FE-82EA-AC474C93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A27-AE5B-4867-ACBF-56F3E00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0C8-D7A2-4327-B5DB-A888D2E4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A2E-9542-44B8-82A6-CDC2ECA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1" marL="393480" indent="-151200">
              <a:spcBef>
                <a:spcPts val="1500"/>
              </a:spcBef>
              <a:buClr>
                <a:srgbClr val="a2321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2" marL="60552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3" marL="84780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4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5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6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525A-9FF8-4464-BADD-D629C50FD07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3E8-C785-479A-BEE8-B5E72620D04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OSMIC.WAV" TargetMode="Externa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10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7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jeopardy.wav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840" y="1717200"/>
            <a:ext cx="1383120" cy="528120"/>
          </a:xfrm>
          <a:custGeom>
            <a:avLst/>
            <a:gdLst>
              <a:gd name="textAreaLeft" fmla="*/ 34200 w 1383120"/>
              <a:gd name="textAreaRight" fmla="*/ 1348920 w 13831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6546" h="21600">
                <a:moveTo>
                  <a:pt x="0" y="0"/>
                </a:moveTo>
                <a:lnTo>
                  <a:pt x="56546" y="0"/>
                </a:lnTo>
                <a:lnTo>
                  <a:pt x="56546" y="21600"/>
                </a:lnTo>
                <a:lnTo>
                  <a:pt x="0" y="21600"/>
                </a:lnTo>
                <a:close/>
              </a:path>
              <a:path fill="lightenLess" w="56546" h="21600">
                <a:moveTo>
                  <a:pt x="0" y="0"/>
                </a:moveTo>
                <a:lnTo>
                  <a:pt x="56546" y="0"/>
                </a:lnTo>
                <a:lnTo>
                  <a:pt x="55146" y="1400"/>
                </a:lnTo>
                <a:lnTo>
                  <a:pt x="1400" y="1400"/>
                </a:lnTo>
                <a:close/>
              </a:path>
              <a:path fill="darken" w="56546" h="21600">
                <a:moveTo>
                  <a:pt x="56546" y="0"/>
                </a:moveTo>
                <a:lnTo>
                  <a:pt x="56546" y="21600"/>
                </a:lnTo>
                <a:lnTo>
                  <a:pt x="55146" y="20200"/>
                </a:lnTo>
                <a:lnTo>
                  <a:pt x="55146" y="1400"/>
                </a:lnTo>
                <a:close/>
              </a:path>
              <a:path fill="darkenLess" w="56546" h="21600">
                <a:moveTo>
                  <a:pt x="56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46" y="20200"/>
                </a:lnTo>
                <a:close/>
              </a:path>
              <a:path fill="lighten" w="56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Know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1522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ading Jeopardy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2578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51814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4197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78880" y="1717200"/>
            <a:ext cx="1605600" cy="528120"/>
          </a:xfrm>
          <a:custGeom>
            <a:avLst/>
            <a:gdLst>
              <a:gd name="textAreaLeft" fmla="*/ 34200 w 1605600"/>
              <a:gd name="textAreaRight" fmla="*/ 1571400 w 16056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5639" h="21600">
                <a:moveTo>
                  <a:pt x="0" y="0"/>
                </a:moveTo>
                <a:lnTo>
                  <a:pt x="65639" y="0"/>
                </a:lnTo>
                <a:lnTo>
                  <a:pt x="65639" y="21600"/>
                </a:lnTo>
                <a:lnTo>
                  <a:pt x="0" y="21600"/>
                </a:lnTo>
                <a:close/>
              </a:path>
              <a:path fill="lightenLess" w="65639" h="21600">
                <a:moveTo>
                  <a:pt x="0" y="0"/>
                </a:moveTo>
                <a:lnTo>
                  <a:pt x="65639" y="0"/>
                </a:lnTo>
                <a:lnTo>
                  <a:pt x="64239" y="1400"/>
                </a:lnTo>
                <a:lnTo>
                  <a:pt x="1400" y="1400"/>
                </a:lnTo>
                <a:close/>
              </a:path>
              <a:path fill="darken" w="65639" h="21600">
                <a:moveTo>
                  <a:pt x="65639" y="0"/>
                </a:moveTo>
                <a:lnTo>
                  <a:pt x="65639" y="21600"/>
                </a:lnTo>
                <a:lnTo>
                  <a:pt x="64239" y="20200"/>
                </a:lnTo>
                <a:lnTo>
                  <a:pt x="64239" y="1400"/>
                </a:lnTo>
                <a:close/>
              </a:path>
              <a:path fill="darkenLess" w="65639" h="21600">
                <a:moveTo>
                  <a:pt x="65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39" y="20200"/>
                </a:lnTo>
                <a:close/>
              </a:path>
              <a:path fill="lighten" w="65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enerat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3440" y="1608840"/>
            <a:ext cx="1704960" cy="808200"/>
          </a:xfrm>
          <a:custGeom>
            <a:avLst/>
            <a:gdLst>
              <a:gd name="textAreaLeft" fmla="*/ 52200 w 1704960"/>
              <a:gd name="textAreaRight" fmla="*/ 1652760 w 170496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45556" h="21600">
                <a:moveTo>
                  <a:pt x="0" y="0"/>
                </a:moveTo>
                <a:lnTo>
                  <a:pt x="45556" y="0"/>
                </a:lnTo>
                <a:lnTo>
                  <a:pt x="45556" y="21600"/>
                </a:lnTo>
                <a:lnTo>
                  <a:pt x="0" y="21600"/>
                </a:lnTo>
                <a:close/>
              </a:path>
              <a:path fill="lightenLess" w="45556" h="21600">
                <a:moveTo>
                  <a:pt x="0" y="0"/>
                </a:moveTo>
                <a:lnTo>
                  <a:pt x="45556" y="0"/>
                </a:lnTo>
                <a:lnTo>
                  <a:pt x="44156" y="1400"/>
                </a:lnTo>
                <a:lnTo>
                  <a:pt x="1400" y="1400"/>
                </a:lnTo>
                <a:close/>
              </a:path>
              <a:path fill="darken" w="45556" h="21600">
                <a:moveTo>
                  <a:pt x="45556" y="0"/>
                </a:moveTo>
                <a:lnTo>
                  <a:pt x="45556" y="21600"/>
                </a:lnTo>
                <a:lnTo>
                  <a:pt x="44156" y="20200"/>
                </a:lnTo>
                <a:lnTo>
                  <a:pt x="44156" y="1400"/>
                </a:lnTo>
                <a:close/>
              </a:path>
              <a:path fill="darkenLess" w="45556" h="21600">
                <a:moveTo>
                  <a:pt x="45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56" y="20200"/>
                </a:lnTo>
                <a:close/>
              </a:path>
              <a:path fill="lighten" w="45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Integrating/ Evaluati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35812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6360" y="1717200"/>
            <a:ext cx="1520280" cy="528120"/>
          </a:xfrm>
          <a:custGeom>
            <a:avLst/>
            <a:gdLst>
              <a:gd name="textAreaLeft" fmla="*/ 34200 w 1520280"/>
              <a:gd name="textAreaRight" fmla="*/ 1486080 w 15202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2151" h="21600">
                <a:moveTo>
                  <a:pt x="0" y="0"/>
                </a:moveTo>
                <a:lnTo>
                  <a:pt x="62151" y="0"/>
                </a:lnTo>
                <a:lnTo>
                  <a:pt x="62151" y="21600"/>
                </a:lnTo>
                <a:lnTo>
                  <a:pt x="0" y="21600"/>
                </a:lnTo>
                <a:close/>
              </a:path>
              <a:path fill="lightenLess" w="62151" h="21600">
                <a:moveTo>
                  <a:pt x="0" y="0"/>
                </a:moveTo>
                <a:lnTo>
                  <a:pt x="62151" y="0"/>
                </a:lnTo>
                <a:lnTo>
                  <a:pt x="60752" y="1400"/>
                </a:lnTo>
                <a:lnTo>
                  <a:pt x="1400" y="1400"/>
                </a:lnTo>
                <a:close/>
              </a:path>
              <a:path fill="darken" w="62151" h="21600">
                <a:moveTo>
                  <a:pt x="62151" y="0"/>
                </a:moveTo>
                <a:lnTo>
                  <a:pt x="62151" y="21600"/>
                </a:lnTo>
                <a:lnTo>
                  <a:pt x="60752" y="20200"/>
                </a:lnTo>
                <a:lnTo>
                  <a:pt x="60752" y="1400"/>
                </a:lnTo>
                <a:close/>
              </a:path>
              <a:path fill="darkenLess" w="62151" h="21600">
                <a:moveTo>
                  <a:pt x="62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52" y="20200"/>
                </a:lnTo>
                <a:close/>
              </a:path>
              <a:path fill="lighten" w="62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nalyz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053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>
            <a:hlinkClick r:id="rId2"/>
          </p:cNvPr>
          <p:cNvSpPr/>
          <p:nvPr/>
        </p:nvSpPr>
        <p:spPr>
          <a:xfrm>
            <a:off x="160020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15228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32640" y="1717200"/>
            <a:ext cx="1401120" cy="528120"/>
          </a:xfrm>
          <a:custGeom>
            <a:avLst/>
            <a:gdLst>
              <a:gd name="textAreaLeft" fmla="*/ 34200 w 1401120"/>
              <a:gd name="textAreaRight" fmla="*/ 1366920 w 14011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7281" h="21600">
                <a:moveTo>
                  <a:pt x="0" y="0"/>
                </a:moveTo>
                <a:lnTo>
                  <a:pt x="57281" y="0"/>
                </a:lnTo>
                <a:lnTo>
                  <a:pt x="57281" y="21600"/>
                </a:lnTo>
                <a:lnTo>
                  <a:pt x="0" y="21600"/>
                </a:lnTo>
                <a:close/>
              </a:path>
              <a:path fill="lightenLess" w="57281" h="21600">
                <a:moveTo>
                  <a:pt x="0" y="0"/>
                </a:moveTo>
                <a:lnTo>
                  <a:pt x="57281" y="0"/>
                </a:lnTo>
                <a:lnTo>
                  <a:pt x="55881" y="1400"/>
                </a:lnTo>
                <a:lnTo>
                  <a:pt x="1400" y="1400"/>
                </a:lnTo>
                <a:close/>
              </a:path>
              <a:path fill="darken" w="57281" h="21600">
                <a:moveTo>
                  <a:pt x="57281" y="0"/>
                </a:moveTo>
                <a:lnTo>
                  <a:pt x="57281" y="21600"/>
                </a:lnTo>
                <a:lnTo>
                  <a:pt x="55881" y="20200"/>
                </a:lnTo>
                <a:lnTo>
                  <a:pt x="55881" y="1400"/>
                </a:lnTo>
                <a:close/>
              </a:path>
              <a:path fill="darkenLess" w="57281" h="21600">
                <a:moveTo>
                  <a:pt x="57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81" y="20200"/>
                </a:lnTo>
                <a:close/>
              </a:path>
              <a:path fill="lighten" w="57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pply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15228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9680" y="1717200"/>
            <a:ext cx="1622160" cy="528120"/>
          </a:xfrm>
          <a:custGeom>
            <a:avLst/>
            <a:gdLst>
              <a:gd name="textAreaLeft" fmla="*/ 34200 w 1622160"/>
              <a:gd name="textAreaRight" fmla="*/ 1587960 w 16221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6316" h="21600">
                <a:moveTo>
                  <a:pt x="0" y="0"/>
                </a:moveTo>
                <a:lnTo>
                  <a:pt x="66316" y="0"/>
                </a:lnTo>
                <a:lnTo>
                  <a:pt x="66316" y="21600"/>
                </a:lnTo>
                <a:lnTo>
                  <a:pt x="0" y="21600"/>
                </a:lnTo>
                <a:close/>
              </a:path>
              <a:path fill="lightenLess" w="66316" h="21600">
                <a:moveTo>
                  <a:pt x="0" y="0"/>
                </a:moveTo>
                <a:lnTo>
                  <a:pt x="66316" y="0"/>
                </a:lnTo>
                <a:lnTo>
                  <a:pt x="64916" y="1400"/>
                </a:lnTo>
                <a:lnTo>
                  <a:pt x="1400" y="1400"/>
                </a:lnTo>
                <a:close/>
              </a:path>
              <a:path fill="darken" w="66316" h="21600">
                <a:moveTo>
                  <a:pt x="66316" y="0"/>
                </a:moveTo>
                <a:lnTo>
                  <a:pt x="66316" y="21600"/>
                </a:lnTo>
                <a:lnTo>
                  <a:pt x="64916" y="20200"/>
                </a:lnTo>
                <a:lnTo>
                  <a:pt x="64916" y="1400"/>
                </a:lnTo>
                <a:close/>
              </a:path>
              <a:path fill="darkenLess" w="66316" h="21600">
                <a:moveTo>
                  <a:pt x="66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16" y="20200"/>
                </a:lnTo>
                <a:close/>
              </a:path>
              <a:path fill="lighten" w="66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5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6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7" action="ppaction://hlinksldjump"/>
              </a:rPr>
              <a:t>4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8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9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0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1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2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3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4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5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6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7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8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>
            <a:hlinkClick r:id="rId19" action="ppaction://hlinksldjump"/>
          </p:cNvPr>
          <p:cNvSpPr/>
          <p:nvPr/>
        </p:nvSpPr>
        <p:spPr>
          <a:xfrm>
            <a:off x="32767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0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1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2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3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4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5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6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7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8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9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0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1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2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3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pperplate Gothic Bold"/>
              </a:rPr>
              <a:t>Double Jeopardy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Compare and contrast the main character in this selection to the main character in another selection.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iz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Based on the selection, what would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ost likely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happen next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do you know that helps you understand this selection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is the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best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reason to read this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did the author do to make this an interesting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experience have you had that is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ost similar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to one of the character’s experience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lesson have you learned from this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part of this story could be real? Make-believe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would be another good title for this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o are the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ain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characters in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Compare 2 characters in the story.  How are they alike?  How are they different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How does the main character change throughout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In what situation would a person have feelings </a:t>
            </a:r>
            <a:r>
              <a:rPr b="0" i="1" lang="en-US" sz="5400" spc="-1" strike="noStrike">
                <a:solidFill>
                  <a:srgbClr val="f8f8f8"/>
                </a:solidFill>
                <a:latin typeface="Times New Roman"/>
              </a:rPr>
              <a:t>most similar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to the main character’s feelings in the story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How does the main character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ost likely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feel at the end of this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y did the author include pictures in this selection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If you were the main character, what would you have done differentl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does the author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ost likely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mean by _______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How would the story have changed if the setting were different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is the mood of the selection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ummarize the story in your own words.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2" marL="91440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is the setting of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Is the main character a good person?  What is the evidence of that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If you were the author of this story, what event would you change and what would the outcome of that change be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Evaluate the quality of this story.  What made it a good story?  What could have made the story better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is the problem in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How was the problem solved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o is the narrator of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iz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Based on the context of the story, what does _____ mean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iz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Based on the selection, what word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best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describes the main character(s)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iz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ich word in the selection means the same as ________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05:08Z</dcterms:created>
  <dc:creator>Craig Smith</dc:creator>
  <dc:description/>
  <dc:language>en-US</dc:language>
  <cp:lastModifiedBy>Randolph County Board of Education</cp:lastModifiedBy>
  <dcterms:modified xsi:type="dcterms:W3CDTF">2003-04-28T19:25:57Z</dcterms:modified>
  <cp:revision>75</cp:revision>
  <dc:subject/>
  <dc:title>Formula Jeopardy!!!</dc:title>
</cp:coreProperties>
</file>